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9ECC-E922-442E-92E2-FD37D8DB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7CB3-BC41-4280-A15D-E46C4F90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A8D-EDCD-4518-8436-B3AFFAC6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EBC-5D12-402F-989F-1BA85C46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8AB2-6636-4078-AD3F-FBC0AB52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338A-2D50-493E-A5DD-A604E685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3CFC-DB78-4E11-9155-108E427B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6078-3C68-4E68-BA45-3E0DD1AE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42DB-F6F5-4ECA-BEF5-EAEE8F68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55FE-EB65-48D8-9362-85AE65AF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6365-E653-46E6-A07D-AF0DD36D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1B58-C3F5-4378-AD7B-0B5FD7CD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CE4E-E594-4849-928A-9CC087EF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B46C-FC53-4035-B1F9-A754687D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E656-C17C-49F7-9216-0AABEFEC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5468-A2E7-455E-8D2D-94EEAEFA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AAF9-2B1D-4177-B11C-082B0C62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05DE-3939-403B-84B3-B4DB0AB5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E37-5E09-48F2-9A1D-1D985F96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249-F1CC-46BA-A32A-979F8D51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AC8-A29F-4E93-85A5-BC1D0373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864-34EE-4DFF-9AFE-1E614B6C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9D7E-B04C-4407-AFCB-017775E5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7CB5-0902-4F70-BAE3-1890D1AC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452B-326B-468C-914B-6F891A0564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22C9-2BC3-4A2E-963B-A1DABFE6E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dvisory Program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A. Farley Middle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isors lead activities with their groups that promote productive convers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isory will be provided with more than enough activities for each week of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isors can pick and choose which activities they will use and have the freedom to lead the group discussions in a different direction or present different activ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 is not…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urriculum that must be compl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 is not…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s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 counselors, social workers, psychologists are trained for counseling and will continue to do th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 a Nut She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ant to give the kids an adult and a group of other kids to connect with and get to know on a more personal level.  Advisors should model good decisions and positive behavi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105520" y="223344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s small, caring communities of learn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s mutually respectful and meaningful relationsh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individual attention to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each student with an opportunity to bel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zes the social and emotional development of every young adolesc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r Mis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ssion of the James A. Farley Middle School, an innovative, challenging and supportive place of learning, in partnership with it’s community is to create a positive educational environment which provides the nurturing and guidance required to facilitate the transformation of children into responsible young adults by fostering their academic, physical, social, emotional and itellectual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sts students with interpersonal communication skills and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teachers to be actively involved in the affective development of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 fun, non stressful portion of a teachers work week in which they can connect with students!!!!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878360" y="1295280"/>
            <a:ext cx="3714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 start date- October 10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base- Shorte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isory- 20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eriod shortened by 1 minu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assing time shortened by 1 min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M Homebase shorten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d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g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 of the program to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valuation of the Progr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-g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re a gra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ly relates to our 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provides the nurturing and guidance required to facilitate the transformation of children into responsible young adul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is just one more thing for me to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I have to plan for adviso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181480" y="2071800"/>
            <a:ext cx="32767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something comes up that I am not comfortable dealing wi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/should I contact par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762600" y="1066680"/>
            <a:ext cx="1390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a student asks a question that I don’t have the answer 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 you may have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we don’t finish the activ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al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to your group about 1 thing they would like to accomplish or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tudents make con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Pie of Life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in groups of 5 or 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k facilit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hand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257800" y="19954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we wa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876920" y="169056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we don’t want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648320" y="1951200"/>
            <a:ext cx="42670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????????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MSA supports advisory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ng adolescents should have at least one adult at a school in which they can connect with and to serve as their advocate”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 World says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dvisory of some type is essential to a successful Middle School program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YMSA~ Seven Essential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A philosophy and mission that reflect the intellectual and developmental needs and characteristics of young adolesc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An organization and structure that support both academic excellence and personal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isory is an organized group of 1 adult and 10-12 students that serves as the students first line of affiliation in their sch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176480" y="1600200"/>
            <a:ext cx="678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dvis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isory groups will meet once a week for 20 min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1:07:43Z</dcterms:created>
  <dc:creator>North Rockland Schools</dc:creator>
  <dc:description/>
  <dc:language>en-US</dc:language>
  <cp:lastModifiedBy>North Rockland Schools</cp:lastModifiedBy>
  <dcterms:modified xsi:type="dcterms:W3CDTF">2008-09-10T19:16:04Z</dcterms:modified>
  <cp:revision>7</cp:revision>
  <dc:subject/>
  <dc:title>Advisory Program</dc:title>
</cp:coreProperties>
</file>